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F002-F123-4694-8524-A28E1FB974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2EF1-4A31-4AD3-A348-8876653F0B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B0D-83E1-42AC-8B16-3D50E706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C98-A35E-49FC-A90C-B41C88BF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9A6F-D71B-4BBE-8833-B7CB95CF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7674-0DC3-422A-8035-AC8522A4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6C89-F6BF-4BE4-AE3E-D4C47867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5421-D42D-48C5-B6A1-85966EAA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D591-C718-4406-8B4F-6E6BEEC1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904-6779-4B39-ACDE-439A8EAD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2C55-C72D-4B65-A271-1650D784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006-E938-41A7-A695-33A2E904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D4BC-A779-4C5E-9747-12DB1ECF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44E6-7DC3-4388-A347-D448BE96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9F32-BC17-4A8E-B8EA-6DE1AC898D2F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Stopping_food_waste,_one_picnic_at_a_time" TargetMode="External"/><Relationship Id="rId2" Type="http://schemas.openxmlformats.org/officeDocument/2006/relationships/hyperlink" Target="http://www.feeding5k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-133200" y="36360"/>
            <a:ext cx="9539280" cy="1828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1/ How many people could you feed with 750kg of vegetables?                                               60/600/600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2/ How many people go hungry in the world at the moment?                                    1 in 4 / 1 in 8 / 1 in 15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3/ How much food is wasted in Europe per year per person?                                   179kg / 257 kg / 346 k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4/ How much food in total is wasted in the whole world per year?                  1.1/1.3/1.5 billion tonn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5/ How many people in the world can’t get enough food to live?     about a million / a billion / a trill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280" y="549360"/>
            <a:ext cx="820908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Read the article to check your answer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6b9f25"/>
                </a:solidFill>
                <a:uFillTx/>
                <a:latin typeface="Book Antiqua"/>
                <a:hlinkClick r:id="rId1"/>
              </a:rPr>
              <a:t>http://eewiki.newint.org/index.php/Stopping_food_waste,_one_picnic_at_a_tim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 Antiqua"/>
              </a:rPr>
              <a:t>And find out about the movement: </a:t>
            </a:r>
            <a:r>
              <a:rPr b="1" lang="en-GB" sz="32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www.feeding5k.org/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3851280" y="4005360"/>
            <a:ext cx="390672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9:31:36Z</dcterms:created>
  <dc:creator>Linda Ruas</dc:creator>
  <dc:description/>
  <dc:language>en-US</dc:language>
  <cp:lastModifiedBy>Linda Ruas</cp:lastModifiedBy>
  <dcterms:modified xsi:type="dcterms:W3CDTF">2014-05-26T19:15:58Z</dcterms:modified>
  <cp:revision>12</cp:revision>
  <dc:subject/>
  <dc:title>How to stop food waste</dc:title>
</cp:coreProperties>
</file>